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png" ContentType="image/png"/>
  <Override PartName="/ppt/media/image40.jpeg" ContentType="image/jpeg"/>
  <Override PartName="/ppt/media/image55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68.png" ContentType="image/pn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71.jpeg" ContentType="image/jpeg"/>
  <Override PartName="/ppt/media/image44.jpeg" ContentType="image/jpeg"/>
  <Override PartName="/ppt/media/image70.jpeg" ContentType="image/jpeg"/>
  <Override PartName="/ppt/media/image43.jpeg" ContentType="image/jpeg"/>
  <Override PartName="/ppt/media/image41.jpeg" ContentType="image/jpeg"/>
  <Override PartName="/ppt/media/image66.png" ContentType="image/pn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9.jpeg" ContentType="image/jpeg"/>
  <Override PartName="/ppt/media/image67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16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54.jpeg" ContentType="image/jpeg"/>
  <Override PartName="/ppt/media/image12.jpeg" ContentType="image/jpeg"/>
  <Override PartName="/ppt/media/image29.jpeg" ContentType="image/jpeg"/>
  <Override PartName="/ppt/media/image13.png" ContentType="image/png"/>
  <Override PartName="/ppt/media/image52.jpeg" ContentType="image/jpeg"/>
  <Override PartName="/ppt/media/image27.jpeg" ContentType="image/jpeg"/>
  <Override PartName="/ppt/media/image1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5.jpeg" ContentType="image/jpeg"/>
  <Override PartName="/ppt/media/image4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" Target="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slide" Target="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57200" y="6292800"/>
            <a:ext cx="457200" cy="43812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4038480" y="6343560"/>
            <a:ext cx="300240" cy="30492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419720" y="6345360"/>
            <a:ext cx="304560" cy="3031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4795920" y="6343560"/>
            <a:ext cx="304560" cy="3002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486080" y="6173640"/>
            <a:ext cx="1828800" cy="641520"/>
          </a:xfrm>
          <a:prstGeom prst="rect">
            <a:avLst/>
          </a:prstGeom>
          <a:noFill/>
          <a:ln w="25560">
            <a:solidFill>
              <a:srgbClr val="ecca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cca22"/>
                </a:solidFill>
                <a:latin typeface="Times New Roman"/>
              </a:rPr>
              <a:t>To return to the chapter summary click Escape or close this docu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8215200" y="6286680"/>
            <a:ext cx="486000" cy="4428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3.xml"/><Relationship Id="rId5" Type="http://schemas.openxmlformats.org/officeDocument/2006/relationships/slide" Target=""/><Relationship Id="rId6" Type="http://schemas.openxmlformats.org/officeDocument/2006/relationships/image" Target="../media/image9.jpeg"/><Relationship Id="rId7" Type="http://schemas.openxmlformats.org/officeDocument/2006/relationships/slide" Target="slide25.xml"/><Relationship Id="rId8" Type="http://schemas.openxmlformats.org/officeDocument/2006/relationships/slide" Target=""/><Relationship Id="rId9" Type="http://schemas.openxmlformats.org/officeDocument/2006/relationships/image" Target="../media/image10.jpeg"/><Relationship Id="rId10" Type="http://schemas.openxmlformats.org/officeDocument/2006/relationships/slide" Target=""/><Relationship Id="rId11" Type="http://schemas.openxmlformats.org/officeDocument/2006/relationships/slide" Target="slide31.xml"/><Relationship Id="rId12" Type="http://schemas.openxmlformats.org/officeDocument/2006/relationships/slide" Target="slide31.xml"/><Relationship Id="rId13" Type="http://schemas.openxmlformats.org/officeDocument/2006/relationships/slide" Target="slide42.xml"/><Relationship Id="rId14" Type="http://schemas.openxmlformats.org/officeDocument/2006/relationships/slide" Target=""/><Relationship Id="rId15" Type="http://schemas.openxmlformats.org/officeDocument/2006/relationships/image" Target="../media/image11.jpeg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35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35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35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35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35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3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35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35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35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35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35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35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35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35.jpe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35.jpe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"/><Relationship Id="rId3" Type="http://schemas.openxmlformats.org/officeDocument/2006/relationships/image" Target="../media/image14.jpeg"/><Relationship Id="rId4" Type="http://schemas.openxmlformats.org/officeDocument/2006/relationships/slide" Target=""/><Relationship Id="rId5" Type="http://schemas.openxmlformats.org/officeDocument/2006/relationships/image" Target="../media/image15.jpeg"/><Relationship Id="rId6" Type="http://schemas.openxmlformats.org/officeDocument/2006/relationships/slide" Target=""/><Relationship Id="rId7" Type="http://schemas.openxmlformats.org/officeDocument/2006/relationships/image" Target="../media/image16.jpeg"/><Relationship Id="rId8" Type="http://schemas.openxmlformats.org/officeDocument/2006/relationships/slide" Target=""/><Relationship Id="rId9" Type="http://schemas.openxmlformats.org/officeDocument/2006/relationships/image" Target="../media/image17.jpeg"/><Relationship Id="rId10" Type="http://schemas.openxmlformats.org/officeDocument/2006/relationships/slide" Target=""/><Relationship Id="rId11" Type="http://schemas.openxmlformats.org/officeDocument/2006/relationships/image" Target="../media/image18.jpeg"/><Relationship Id="rId12" Type="http://schemas.openxmlformats.org/officeDocument/2006/relationships/slide" Target=""/><Relationship Id="rId13" Type="http://schemas.openxmlformats.org/officeDocument/2006/relationships/image" Target="../media/image19.jpeg"/><Relationship Id="rId14" Type="http://schemas.openxmlformats.org/officeDocument/2006/relationships/slide" Target=""/><Relationship Id="rId15" Type="http://schemas.openxmlformats.org/officeDocument/2006/relationships/image" Target="../media/image20.jpeg"/><Relationship Id="rId16" Type="http://schemas.openxmlformats.org/officeDocument/2006/relationships/slide" Target=""/><Relationship Id="rId17" Type="http://schemas.openxmlformats.org/officeDocument/2006/relationships/image" Target="../media/image21.jpeg"/><Relationship Id="rId18" Type="http://schemas.openxmlformats.org/officeDocument/2006/relationships/slide" Target=""/><Relationship Id="rId19" Type="http://schemas.openxmlformats.org/officeDocument/2006/relationships/image" Target="../media/image22.jpeg"/><Relationship Id="rId20" Type="http://schemas.openxmlformats.org/officeDocument/2006/relationships/slide" Target=""/><Relationship Id="rId21" Type="http://schemas.openxmlformats.org/officeDocument/2006/relationships/image" Target="../media/image23.jpeg"/><Relationship Id="rId22" Type="http://schemas.openxmlformats.org/officeDocument/2006/relationships/slide" Target=""/><Relationship Id="rId23" Type="http://schemas.openxmlformats.org/officeDocument/2006/relationships/image" Target="../media/image24.jpeg"/><Relationship Id="rId24" Type="http://schemas.openxmlformats.org/officeDocument/2006/relationships/image" Target="../media/image25.jpeg"/><Relationship Id="rId25" Type="http://schemas.openxmlformats.org/officeDocument/2006/relationships/image" Target="../media/image26.jpeg"/><Relationship Id="rId26" Type="http://schemas.openxmlformats.org/officeDocument/2006/relationships/image" Target="../media/image27.jpeg"/><Relationship Id="rId27" Type="http://schemas.openxmlformats.org/officeDocument/2006/relationships/image" Target="../media/image28.jpeg"/><Relationship Id="rId28" Type="http://schemas.openxmlformats.org/officeDocument/2006/relationships/image" Target="../media/image29.jpeg"/><Relationship Id="rId29" Type="http://schemas.openxmlformats.org/officeDocument/2006/relationships/image" Target="../media/image30.jpeg"/><Relationship Id="rId30" Type="http://schemas.openxmlformats.org/officeDocument/2006/relationships/image" Target="../media/image31.jpeg"/><Relationship Id="rId31" Type="http://schemas.openxmlformats.org/officeDocument/2006/relationships/image" Target="../media/image32.jpeg"/><Relationship Id="rId32" Type="http://schemas.openxmlformats.org/officeDocument/2006/relationships/image" Target="../media/image33.jpeg"/><Relationship Id="rId33" Type="http://schemas.openxmlformats.org/officeDocument/2006/relationships/image" Target="../media/image34.jpeg"/><Relationship Id="rId34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png"/><Relationship Id="rId3" Type="http://schemas.openxmlformats.org/officeDocument/2006/relationships/image" Target="../media/image67.jpeg"/><Relationship Id="rId4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"/><Relationship Id="rId3" Type="http://schemas.openxmlformats.org/officeDocument/2006/relationships/image" Target="../media/image71.jpeg"/><Relationship Id="rId4" Type="http://schemas.openxmlformats.org/officeDocument/2006/relationships/image" Target="../media/image3.jpeg"/><Relationship Id="rId5" Type="http://schemas.openxmlformats.org/officeDocument/2006/relationships/slide" Target="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35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35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35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35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9920" y="3505320"/>
            <a:ext cx="1600200" cy="425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438280" y="1971720"/>
            <a:ext cx="0" cy="3600360"/>
          </a:xfrm>
          <a:prstGeom prst="line">
            <a:avLst/>
          </a:prstGeom>
          <a:ln w="38160">
            <a:solidFill>
              <a:srgbClr val="ecca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38280" y="5562720"/>
            <a:ext cx="1067040" cy="1440"/>
          </a:xfrm>
          <a:prstGeom prst="line">
            <a:avLst/>
          </a:prstGeom>
          <a:ln w="38160">
            <a:solidFill>
              <a:srgbClr val="ecca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3798720"/>
            <a:ext cx="1067040" cy="1800"/>
          </a:xfrm>
          <a:prstGeom prst="line">
            <a:avLst/>
          </a:prstGeom>
          <a:ln w="38160">
            <a:solidFill>
              <a:srgbClr val="ecca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3160800"/>
            <a:ext cx="1067040" cy="1440"/>
          </a:xfrm>
          <a:prstGeom prst="line">
            <a:avLst/>
          </a:prstGeom>
          <a:ln w="38160">
            <a:solidFill>
              <a:srgbClr val="ecca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38280" y="2570040"/>
            <a:ext cx="1067040" cy="1800"/>
          </a:xfrm>
          <a:prstGeom prst="line">
            <a:avLst/>
          </a:prstGeom>
          <a:ln w="38160">
            <a:solidFill>
              <a:srgbClr val="ecca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38280" y="1981080"/>
            <a:ext cx="1067040" cy="1800"/>
          </a:xfrm>
          <a:prstGeom prst="line">
            <a:avLst/>
          </a:prstGeom>
          <a:ln w="38160">
            <a:solidFill>
              <a:srgbClr val="ecca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7560" y="1778040"/>
            <a:ext cx="14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cca22"/>
                </a:solidFill>
                <a:latin typeface="Times New Roman"/>
              </a:rPr>
              <a:t>glencoe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876920" y="1736640"/>
            <a:ext cx="685800" cy="549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443760" y="2355840"/>
            <a:ext cx="141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imes New Roman"/>
                <a:hlinkClick r:id="rId4" action="ppaction://hlinksldjump"/>
              </a:rPr>
              <a:t>Image Ban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816440" y="2266920"/>
            <a:ext cx="538200" cy="628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444120" y="296244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imes New Roman"/>
                <a:hlinkClick r:id="rId7" action="ppaction://hlinksldjump"/>
              </a:rPr>
              <a:t>Fold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587840" y="2901960"/>
            <a:ext cx="787320" cy="56340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rId10" action="ppaction://hlinksldjump"/>
          </p:cNvPr>
          <p:cNvSpPr/>
          <p:nvPr/>
        </p:nvSpPr>
        <p:spPr>
          <a:xfrm>
            <a:off x="3423960" y="3571920"/>
            <a:ext cx="308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imes New Roman"/>
                <a:hlinkClick r:id="rId11" action="ppaction://hlinksldjump"/>
              </a:rPr>
              <a:t>Video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imes New Roman"/>
                <a:hlinkClick r:id="rId12" action="ppaction://hlinksldjump"/>
              </a:rPr>
              <a:t>Clips</a:t>
            </a:r>
            <a:r>
              <a:rPr b="0" lang="en-US" sz="2000" spc="-1" strike="noStrike" u="sng">
                <a:solidFill>
                  <a:srgbClr val="ecca22"/>
                </a:solidFill>
                <a:uFillTx/>
                <a:latin typeface="Times New Roman"/>
              </a:rPr>
              <a:t> and Anim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34760" y="5334120"/>
            <a:ext cx="28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imes New Roman"/>
                <a:hlinkClick r:id="rId13" action="ppaction://hlinksldjump"/>
              </a:rPr>
              <a:t>Standardized Test Pract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6315120" y="5378400"/>
            <a:ext cx="388800" cy="425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67720" y="0"/>
            <a:ext cx="28051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Chapter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>
            <a:hlinkClick r:id="rId16" action="ppaction://hlinksldjump"/>
          </p:cNvPr>
          <p:cNvSpPr/>
          <p:nvPr/>
        </p:nvSpPr>
        <p:spPr>
          <a:xfrm>
            <a:off x="1523880" y="73008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f9f9"/>
                </a:solidFill>
                <a:latin typeface="Times New Roman"/>
              </a:rPr>
              <a:t>Click on one of the following icons to go to that resour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>
            <a:hlinkClick r:id="rId17" action="ppaction://hlinksldjump"/>
          </p:cNvPr>
          <p:cNvSpPr/>
          <p:nvPr/>
        </p:nvSpPr>
        <p:spPr>
          <a:xfrm>
            <a:off x="3425760" y="4772160"/>
            <a:ext cx="29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cca22"/>
                </a:solidFill>
                <a:uFillTx/>
                <a:latin typeface="Times New Roman"/>
              </a:rPr>
              <a:t>Chapter Review Ques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38280" y="4981680"/>
            <a:ext cx="1067040" cy="1440"/>
          </a:xfrm>
          <a:prstGeom prst="line">
            <a:avLst/>
          </a:prstGeom>
          <a:ln w="38160">
            <a:solidFill>
              <a:srgbClr val="ecca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>
            <a:hlinkClick r:id="rId18" action="ppaction://hlinksldjump"/>
          </p:cNvPr>
          <p:cNvSpPr/>
          <p:nvPr/>
        </p:nvSpPr>
        <p:spPr>
          <a:xfrm>
            <a:off x="3426120" y="4172040"/>
            <a:ext cx="20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cca22"/>
                </a:solidFill>
                <a:uFillTx/>
                <a:latin typeface="Times New Roman"/>
              </a:rPr>
              <a:t>Chapter Summ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38280" y="4400640"/>
            <a:ext cx="1067040" cy="1440"/>
          </a:xfrm>
          <a:prstGeom prst="line">
            <a:avLst/>
          </a:prstGeom>
          <a:ln w="38160">
            <a:solidFill>
              <a:srgbClr val="ecca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658320" y="0"/>
            <a:ext cx="18068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Image Ba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457200" y="1676520"/>
            <a:ext cx="243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9f9"/>
                </a:solidFill>
                <a:latin typeface="Times New Roman"/>
              </a:rPr>
              <a:t>J. J. Thom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95880" y="6249960"/>
            <a:ext cx="901800" cy="4809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3859200" y="853920"/>
            <a:ext cx="33926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658320" y="0"/>
            <a:ext cx="18068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Image Ba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3352680" y="76212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9f9"/>
                </a:solidFill>
                <a:latin typeface="Times New Roman"/>
              </a:rPr>
              <a:t>Cathode R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95880" y="6249960"/>
            <a:ext cx="901800" cy="4809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714680" y="1638360"/>
            <a:ext cx="57150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658320" y="0"/>
            <a:ext cx="18068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Image Ba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457200" y="1676520"/>
            <a:ext cx="243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9f9"/>
                </a:solidFill>
                <a:latin typeface="Times New Roman"/>
              </a:rPr>
              <a:t>Thomson’s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95880" y="6249960"/>
            <a:ext cx="901800" cy="480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3809880" y="888840"/>
            <a:ext cx="382752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658320" y="0"/>
            <a:ext cx="18068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Image Ba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457200" y="1676520"/>
            <a:ext cx="243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9f9"/>
                </a:solidFill>
                <a:latin typeface="Times New Roman"/>
              </a:rPr>
              <a:t>Rutherford’s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95880" y="6249960"/>
            <a:ext cx="901800" cy="480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2895480" y="838080"/>
            <a:ext cx="571500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658320" y="0"/>
            <a:ext cx="18068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Image Ba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3086280" y="8380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9f9"/>
                </a:solidFill>
                <a:latin typeface="Times New Roman"/>
              </a:rPr>
              <a:t>Improved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95880" y="6249960"/>
            <a:ext cx="901800" cy="4809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714680" y="1752480"/>
            <a:ext cx="571500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658320" y="0"/>
            <a:ext cx="18068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Image Ba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457200" y="1676520"/>
            <a:ext cx="243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9f9"/>
                </a:solidFill>
                <a:latin typeface="Times New Roman"/>
              </a:rPr>
              <a:t>Electron Clo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95880" y="6249960"/>
            <a:ext cx="901800" cy="480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3200400" y="1197000"/>
            <a:ext cx="438156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658320" y="0"/>
            <a:ext cx="18068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Image Ba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3505320" y="10206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9f9"/>
                </a:solidFill>
                <a:latin typeface="Times New Roman"/>
              </a:rPr>
              <a:t>Neon L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95880" y="6249960"/>
            <a:ext cx="901800" cy="4809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1295280" y="2286000"/>
            <a:ext cx="640080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658320" y="0"/>
            <a:ext cx="18068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Image Ba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457200" y="1676520"/>
            <a:ext cx="243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9f9"/>
                </a:solidFill>
                <a:latin typeface="Times New Roman"/>
              </a:rPr>
              <a:t>Atomic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95880" y="6249960"/>
            <a:ext cx="901800" cy="4809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2895480" y="968400"/>
            <a:ext cx="541044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658320" y="0"/>
            <a:ext cx="18068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Image Ba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3124080" y="10666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9f9"/>
                </a:solidFill>
                <a:latin typeface="Times New Roman"/>
              </a:rPr>
              <a:t>Mass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95880" y="6249960"/>
            <a:ext cx="901800" cy="4809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685800" y="2133720"/>
            <a:ext cx="7620120" cy="26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658320" y="0"/>
            <a:ext cx="18068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Image Ba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457200" y="1676520"/>
            <a:ext cx="243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9f9"/>
                </a:solidFill>
                <a:latin typeface="Times New Roman"/>
              </a:rPr>
              <a:t>Isotope Abund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95880" y="6249960"/>
            <a:ext cx="901800" cy="480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3902040" y="952560"/>
            <a:ext cx="394668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676520" y="681120"/>
            <a:ext cx="5562360" cy="5262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657600" y="10666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Times New Roman"/>
              </a:rPr>
              <a:t>glencoe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658320" y="0"/>
            <a:ext cx="18068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Image Ba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3124080" y="76212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9f9"/>
                </a:solidFill>
                <a:latin typeface="Times New Roman"/>
              </a:rPr>
              <a:t>Different Met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95880" y="6249960"/>
            <a:ext cx="901800" cy="4809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1549440" y="1676520"/>
            <a:ext cx="604512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658320" y="0"/>
            <a:ext cx="18068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Image Ba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3581280" y="8380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9f9"/>
                </a:solidFill>
                <a:latin typeface="Times New Roman"/>
              </a:rPr>
              <a:t>Nonme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95880" y="6249960"/>
            <a:ext cx="901800" cy="4809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1943280" y="1828800"/>
            <a:ext cx="525780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658320" y="0"/>
            <a:ext cx="18068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Image Ba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457200" y="1905120"/>
            <a:ext cx="243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9f9"/>
                </a:solidFill>
                <a:latin typeface="Times New Roman"/>
              </a:rPr>
              <a:t>Chemical Form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95880" y="6249960"/>
            <a:ext cx="901800" cy="4809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3276720" y="1863720"/>
            <a:ext cx="525780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658320" y="0"/>
            <a:ext cx="18068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Image Ba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457200" y="16765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9f9"/>
                </a:solidFill>
                <a:latin typeface="Times New Roman"/>
              </a:rPr>
              <a:t>Bag of 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95880" y="6249960"/>
            <a:ext cx="901800" cy="4809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4094280" y="797040"/>
            <a:ext cx="35258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658320" y="0"/>
            <a:ext cx="18068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Image Ba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457200" y="16765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9f9"/>
                </a:solidFill>
                <a:latin typeface="Times New Roman"/>
              </a:rPr>
              <a:t>Mix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95880" y="6249960"/>
            <a:ext cx="901800" cy="4809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2666880" y="1054080"/>
            <a:ext cx="549936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01600" y="28440"/>
            <a:ext cx="149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Fold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00200" y="762120"/>
            <a:ext cx="46483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toms, Elements, and the Periodic T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>
            <a:hlinkClick r:id="rId1" action="ppaction://hlinksldjump"/>
          </p:cNvPr>
          <p:cNvSpPr/>
          <p:nvPr/>
        </p:nvSpPr>
        <p:spPr>
          <a:xfrm>
            <a:off x="457200" y="20113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9f9"/>
                </a:solidFill>
                <a:latin typeface="Times New Roman"/>
              </a:rPr>
              <a:t>Make the following Foldable to help you identify the main ideas about atoms, elements, compounds, and mixt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858000" y="720720"/>
            <a:ext cx="1905120" cy="9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801600" y="28440"/>
            <a:ext cx="149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Fold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858000" y="720720"/>
            <a:ext cx="1905120" cy="9558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533520" y="1523880"/>
            <a:ext cx="289548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ca22"/>
                </a:solidFill>
                <a:latin typeface="Times New Roman"/>
              </a:rPr>
              <a:t>Draw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mark at the midpoint of a sheet of paper along the side edge.  Then </a:t>
            </a:r>
            <a:r>
              <a:rPr b="0" lang="en-US" sz="3200" spc="-1" strike="noStrike">
                <a:solidFill>
                  <a:srgbClr val="ecca22"/>
                </a:solidFill>
                <a:latin typeface="Times New Roman"/>
              </a:rPr>
              <a:t>fol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top and bottom edges in to touch the mid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523880" y="628560"/>
            <a:ext cx="1447920" cy="6667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3886200" y="762120"/>
            <a:ext cx="2124000" cy="29336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4876920" y="3962520"/>
            <a:ext cx="373356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801600" y="28440"/>
            <a:ext cx="149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Fold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858000" y="720720"/>
            <a:ext cx="1905120" cy="955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57200" y="2212920"/>
            <a:ext cx="29718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ca22"/>
                </a:solidFill>
                <a:latin typeface="Times New Roman"/>
              </a:rPr>
              <a:t>Fol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 half from side to sid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523880" y="609480"/>
            <a:ext cx="1447920" cy="6876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4076640" y="2257560"/>
            <a:ext cx="369576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801600" y="28440"/>
            <a:ext cx="149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Fold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2270160"/>
            <a:ext cx="2971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ca22"/>
                </a:solidFill>
                <a:latin typeface="Times New Roman"/>
              </a:rPr>
              <a:t>Open and cut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ong the inside fold lines to form four tab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858000" y="720720"/>
            <a:ext cx="1905120" cy="955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523880" y="638280"/>
            <a:ext cx="1447920" cy="657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3886200" y="2987640"/>
            <a:ext cx="419112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801600" y="28440"/>
            <a:ext cx="149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Fold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858000" y="720720"/>
            <a:ext cx="1905120" cy="9558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533600" y="609480"/>
            <a:ext cx="1447560" cy="6667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457200" y="2289240"/>
            <a:ext cx="2438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ca22"/>
                </a:solidFill>
                <a:latin typeface="Times New Roman"/>
              </a:rPr>
              <a:t>Label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tab as sho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3200400" y="3041640"/>
            <a:ext cx="480060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33200" y="380880"/>
            <a:ext cx="8867880" cy="5848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639240" y="0"/>
            <a:ext cx="18068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Image Ba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638680" y="6173640"/>
            <a:ext cx="1828800" cy="641520"/>
          </a:xfrm>
          <a:prstGeom prst="rect">
            <a:avLst/>
          </a:prstGeom>
          <a:noFill/>
          <a:ln w="25560">
            <a:solidFill>
              <a:srgbClr val="ecca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cca22"/>
                </a:solidFill>
                <a:latin typeface="Times New Roman"/>
              </a:rPr>
              <a:t>Click on individual thumbnail images to view larger vers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447920" y="819000"/>
            <a:ext cx="838080" cy="628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581280" y="622440"/>
            <a:ext cx="863640" cy="9144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486160" y="853920"/>
            <a:ext cx="914400" cy="520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648320" y="806400"/>
            <a:ext cx="914400" cy="584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730840" y="790560"/>
            <a:ext cx="914400" cy="647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7004160" y="638280"/>
            <a:ext cx="546120" cy="9144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8016840" y="638280"/>
            <a:ext cx="647640" cy="914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17520" y="1892160"/>
            <a:ext cx="914400" cy="64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1508040" y="1736640"/>
            <a:ext cx="723960" cy="9144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2486160" y="1812960"/>
            <a:ext cx="914400" cy="774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3581280" y="1873080"/>
            <a:ext cx="914400" cy="6224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4"/>
          <a:stretch/>
        </p:blipFill>
        <p:spPr>
          <a:xfrm>
            <a:off x="4648320" y="1755720"/>
            <a:ext cx="914400" cy="876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5"/>
          <a:stretch/>
        </p:blipFill>
        <p:spPr>
          <a:xfrm>
            <a:off x="5730840" y="2028960"/>
            <a:ext cx="914400" cy="368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6"/>
          <a:stretch/>
        </p:blipFill>
        <p:spPr>
          <a:xfrm>
            <a:off x="6813720" y="1797120"/>
            <a:ext cx="914400" cy="787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7"/>
          <a:stretch/>
        </p:blipFill>
        <p:spPr>
          <a:xfrm>
            <a:off x="7893000" y="2041560"/>
            <a:ext cx="914400" cy="317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8"/>
          <a:stretch/>
        </p:blipFill>
        <p:spPr>
          <a:xfrm>
            <a:off x="396720" y="2835360"/>
            <a:ext cx="774720" cy="914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9"/>
          <a:stretch/>
        </p:blipFill>
        <p:spPr>
          <a:xfrm>
            <a:off x="1403280" y="3003480"/>
            <a:ext cx="914400" cy="596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0"/>
          <a:stretch/>
        </p:blipFill>
        <p:spPr>
          <a:xfrm>
            <a:off x="2486160" y="2975040"/>
            <a:ext cx="914400" cy="635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1"/>
          <a:stretch/>
        </p:blipFill>
        <p:spPr>
          <a:xfrm>
            <a:off x="3581280" y="2987640"/>
            <a:ext cx="914400" cy="6350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2"/>
          <a:stretch/>
        </p:blipFill>
        <p:spPr>
          <a:xfrm>
            <a:off x="4781520" y="2832120"/>
            <a:ext cx="647640" cy="914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3"/>
          <a:stretch/>
        </p:blipFill>
        <p:spPr>
          <a:xfrm>
            <a:off x="5730840" y="2927520"/>
            <a:ext cx="91440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01600" y="28440"/>
            <a:ext cx="149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Fold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2232000"/>
            <a:ext cx="78487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you read the chapter, list several everyday examples of atoms, elements, compounds, and mixtures on the back of the appropriate tab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762120"/>
            <a:ext cx="4648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Read and Wri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0" y="720720"/>
            <a:ext cx="1905120" cy="9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697560" y="28440"/>
            <a:ext cx="1718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Video Cl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7" name="cmFlash28"/>
          <p:cNvGraphicFramePr/>
          <p:nvPr/>
        </p:nvGraphicFramePr>
        <p:xfrm>
          <a:off x="1219320" y="1447920"/>
          <a:ext cx="6095880" cy="41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cmFlash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6095880" cy="41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7391520" y="5016600"/>
            <a:ext cx="129528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697560" y="28440"/>
            <a:ext cx="1718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Video Cl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743200" y="1771560"/>
            <a:ext cx="3581280" cy="26863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285000" y="4540320"/>
            <a:ext cx="24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cca22"/>
                </a:solidFill>
                <a:latin typeface="Times New Roman"/>
              </a:rPr>
              <a:t>Click image to view movi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533520" y="125424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tter is anything that occupies space and has mass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71040" y="685800"/>
            <a:ext cx="4039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Structure of Mat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3520" y="221292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tter is made up of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69880" y="4111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964960" y="0"/>
            <a:ext cx="31586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viewing Main Ide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273060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oms are made of smaller parts called protons, neutrons, and electrons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3657600"/>
            <a:ext cx="82296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models of atoms have been created as scientists try to discover and define the atom’s internal structure. Today’s model has a central nucleus with the protons and neutrons, and an electron cloud surrounding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533520" y="1444680"/>
            <a:ext cx="7696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ments are the building blocks of matter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571040" y="685800"/>
            <a:ext cx="42177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Simplest Mat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217476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element’s atomic number tells how many protons its atoms contain, and its atomic mass tells the average mass of its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69880" y="4111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964960" y="0"/>
            <a:ext cx="31586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viewing Main Ide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377496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otopes are two or more atoms of the same element that have different numbers of neutrons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533520" y="1432080"/>
            <a:ext cx="80769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ounds are substances that are produced when elements combine. Compounds contain specific proportions of the elements that make them 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68520" y="685800"/>
            <a:ext cx="5289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mpounds and Mixt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347040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xtures are combinations of compounds and elements that have not formed new substances. Their proportions can change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69880" y="4111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964960" y="0"/>
            <a:ext cx="31586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viewing Main Ide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760400" y="8380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382920" y="0"/>
            <a:ext cx="23464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Chapter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4960" y="1477800"/>
            <a:ext cx="792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se you pour some sand into a glass of water. Is the mixture that results homogeneous or heterogeneous?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33520" y="428940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ixture is heterogeneous. It has obvious different parts, which could be separated out again—for example, through evapo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753560" y="35812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283360" y="6232680"/>
            <a:ext cx="736560" cy="6253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6251400" y="6299280"/>
            <a:ext cx="892440" cy="368280"/>
          </a:xfrm>
          <a:prstGeom prst="rect">
            <a:avLst/>
          </a:prstGeom>
          <a:noFill/>
          <a:ln w="936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S 3.1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760400" y="8380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82920" y="0"/>
            <a:ext cx="23464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Chapter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4960" y="1477800"/>
            <a:ext cx="792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name for an element that has some characteristics of metals and some characteristics of nonmetals?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33520" y="3475080"/>
            <a:ext cx="784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isot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metall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synthetic 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transition 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5283360" y="6232680"/>
            <a:ext cx="736560" cy="6253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251400" y="6299280"/>
            <a:ext cx="892440" cy="368280"/>
          </a:xfrm>
          <a:prstGeom prst="rect">
            <a:avLst/>
          </a:prstGeom>
          <a:noFill/>
          <a:ln w="936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S 3.2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382920" y="0"/>
            <a:ext cx="23464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Chapter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33520" y="144792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B. These elements appear on the periodic table between metals and nonmetals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753560" y="86184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133720" y="2624040"/>
            <a:ext cx="500364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760400" y="8380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382920" y="0"/>
            <a:ext cx="23464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Chapter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4960" y="1477800"/>
            <a:ext cx="792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ooking at an object, and touching it, you can tell that it’s shiny and conducts heat well. It’s a fair guess that the object is a _______?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33520" y="47545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characteristics describe a metal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753560" y="404640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5283360" y="6232680"/>
            <a:ext cx="736560" cy="625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6251040" y="6299280"/>
            <a:ext cx="880200" cy="368280"/>
          </a:xfrm>
          <a:prstGeom prst="rect">
            <a:avLst/>
          </a:prstGeom>
          <a:noFill/>
          <a:ln w="936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S 3.1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658320" y="0"/>
            <a:ext cx="18068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Image Ba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5880" y="6249960"/>
            <a:ext cx="901800" cy="4809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33520" y="1371600"/>
            <a:ext cx="7924680" cy="46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ransfer images to your own power point follow the following step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n the “Resource” file from the CD-ROM disc – view the file in the “normal view” or “slide sorter view” mode - go to slide #2 – from there you can click through the images and follow these instructions. Click once on the imag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py the im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 to your own power point docu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te the im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00200" y="633240"/>
            <a:ext cx="4648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ransfer Im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760400" y="8380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382920" y="0"/>
            <a:ext cx="23464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Chapter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4960" y="1477800"/>
            <a:ext cx="792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hydrogen atoms have one proton in their nuclei. Do all atoms of hydrogen have one neutron as well?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33520" y="431316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no. Some hydrogen atoms exist as isotopes. In fact, three isotopes of hydrogen exi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53560" y="360504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283360" y="6232680"/>
            <a:ext cx="736560" cy="6253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6251040" y="6299280"/>
            <a:ext cx="880200" cy="368280"/>
          </a:xfrm>
          <a:prstGeom prst="rect">
            <a:avLst/>
          </a:prstGeom>
          <a:noFill/>
          <a:ln w="936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S 3.3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760400" y="8380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82920" y="0"/>
            <a:ext cx="23464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Chapter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34960" y="1477800"/>
            <a:ext cx="792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an electron a positively or a negatively charged partic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31316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ns are negatively charged.  Protons are positively charg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53560" y="360504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5283360" y="6232680"/>
            <a:ext cx="736560" cy="6253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6251400" y="6299280"/>
            <a:ext cx="892440" cy="368280"/>
          </a:xfrm>
          <a:prstGeom prst="rect">
            <a:avLst/>
          </a:prstGeom>
          <a:noFill/>
          <a:ln w="936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S 3.3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641680" y="28440"/>
            <a:ext cx="38383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ndardized Test 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760400" y="8380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34960" y="1509840"/>
            <a:ext cx="8075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was a time when it was believed that matter could be made to disappear, such as when a log burns up and “goes away.” Now we know that matter never disappears, it only ________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283360" y="6232680"/>
            <a:ext cx="736560" cy="6253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6251040" y="6299280"/>
            <a:ext cx="880200" cy="368280"/>
          </a:xfrm>
          <a:prstGeom prst="rect">
            <a:avLst/>
          </a:prstGeom>
          <a:noFill/>
          <a:ln w="936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S 3.2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641680" y="28440"/>
            <a:ext cx="38383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ndardized Test 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3520" y="2454120"/>
            <a:ext cx="784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becomes transpa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changes 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temporarily disapp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virtually disapp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283360" y="6232680"/>
            <a:ext cx="736560" cy="6253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6251040" y="6299280"/>
            <a:ext cx="880200" cy="368280"/>
          </a:xfrm>
          <a:prstGeom prst="rect">
            <a:avLst/>
          </a:prstGeom>
          <a:noFill/>
          <a:ln w="936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S 3.2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2641680" y="28440"/>
            <a:ext cx="38383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ndardized Test 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60040" y="7858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33520" y="147780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B. The law of the conservation of matter states that matter cannot be created or destroy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641680" y="28440"/>
            <a:ext cx="38383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ndardized Test 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760400" y="8380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34960" y="1477800"/>
            <a:ext cx="807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on who is credited with being the first to hypothesize that all matter is made up of tiny pieces is _______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3368520"/>
            <a:ext cx="784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Democri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Pla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Socr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Tertulli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5283360" y="6232680"/>
            <a:ext cx="736560" cy="6253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6251040" y="6299280"/>
            <a:ext cx="880200" cy="368280"/>
          </a:xfrm>
          <a:prstGeom prst="rect">
            <a:avLst/>
          </a:prstGeom>
          <a:noFill/>
          <a:ln w="936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S 3.3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641680" y="28440"/>
            <a:ext cx="38383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ndardized Test 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60040" y="7858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3520" y="1477800"/>
            <a:ext cx="784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A. Democritus even coined the term “atom.” It was many centuries, however, before Democritus’ hypothesis was found to be corr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641680" y="28440"/>
            <a:ext cx="38383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ndardized Test 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760400" y="8380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34960" y="1477800"/>
            <a:ext cx="8075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 the beginning of the 20th century, a man named Ernest Rutherford fired alpha particles at a thin piece of gold foil. Many of the particles passed through the foil, but some bounced back. From this startling result Rutherford realized that atoms are largely empty space with a _______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5283360" y="6232680"/>
            <a:ext cx="736560" cy="6253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6251040" y="6299280"/>
            <a:ext cx="880200" cy="368280"/>
          </a:xfrm>
          <a:prstGeom prst="rect">
            <a:avLst/>
          </a:prstGeom>
          <a:noFill/>
          <a:ln w="936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S 3.3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641680" y="28440"/>
            <a:ext cx="38383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ndardized Test 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378160"/>
            <a:ext cx="784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hard outer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positively charged nucl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tendency to reco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universal fie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5283360" y="6232680"/>
            <a:ext cx="736560" cy="62532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251040" y="6299280"/>
            <a:ext cx="880200" cy="368280"/>
          </a:xfrm>
          <a:prstGeom prst="rect">
            <a:avLst/>
          </a:prstGeom>
          <a:noFill/>
          <a:ln w="936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S 3.3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641680" y="28440"/>
            <a:ext cx="38383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ndardized Test 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760040" y="7858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3520" y="1477800"/>
            <a:ext cx="3047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B. Rutherford had discovered the nucleus of the atom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3809880" y="1600200"/>
            <a:ext cx="474660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58320" y="0"/>
            <a:ext cx="18068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Image Ba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2127240" y="762120"/>
            <a:ext cx="488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9f9"/>
                </a:solidFill>
                <a:latin typeface="Times New Roman"/>
              </a:rPr>
              <a:t>Table – Early Beliefs About the Composition of Ma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95880" y="6249960"/>
            <a:ext cx="901800" cy="480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374840" y="2057400"/>
            <a:ext cx="639432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641680" y="28440"/>
            <a:ext cx="38383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ndardized Test 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760400" y="8380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34960" y="1477800"/>
            <a:ext cx="807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oms were once thought to be indivisible. Now we know they are made up of _______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3520" y="2971800"/>
            <a:ext cx="784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protons and tachy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protopla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proto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protons and neutron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5283360" y="6232680"/>
            <a:ext cx="736560" cy="6253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6251040" y="6299280"/>
            <a:ext cx="880200" cy="368280"/>
          </a:xfrm>
          <a:prstGeom prst="rect">
            <a:avLst/>
          </a:prstGeom>
          <a:noFill/>
          <a:ln w="936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S 3.3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641680" y="28440"/>
            <a:ext cx="38383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ndardized Test 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760040" y="7858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3520" y="14778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D. Positively charged protons and neutral neutrons are “sub-atomic partic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641680" y="28440"/>
            <a:ext cx="38383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ndardized Test 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760400" y="8380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4960" y="1477800"/>
            <a:ext cx="807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atest research has found that even protons and neutrons are made of smaller particles called _______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3368520"/>
            <a:ext cx="784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isoto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qua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qua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Z-parti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5283360" y="6232680"/>
            <a:ext cx="736560" cy="6253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6251040" y="6299280"/>
            <a:ext cx="880200" cy="368280"/>
          </a:xfrm>
          <a:prstGeom prst="rect">
            <a:avLst/>
          </a:prstGeom>
          <a:noFill/>
          <a:ln w="936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S 3.3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2641680" y="28440"/>
            <a:ext cx="38383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ndardized Test 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760040" y="7858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33520" y="14778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C, quark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838080" y="5181480"/>
            <a:ext cx="486000" cy="443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1523880" y="68580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advance to the next item or next page click on any of the following keys: mouse, space bar, enter, down or forward arrow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431000" y="1981080"/>
            <a:ext cx="632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this icon to return to the table of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32080" y="2749680"/>
            <a:ext cx="600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this icon to return to the previous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432800" y="3591000"/>
            <a:ext cx="543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this icon to move to the next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746080" y="4419720"/>
            <a:ext cx="55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this icon to open the resources fi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143600" y="0"/>
            <a:ext cx="80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el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9480" y="4459320"/>
            <a:ext cx="2057400" cy="37152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838080" y="2743200"/>
            <a:ext cx="451080" cy="45720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8080" y="1982880"/>
            <a:ext cx="457200" cy="45540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38080" y="3581280"/>
            <a:ext cx="457200" cy="45108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1591920" y="5181480"/>
            <a:ext cx="67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this icon to go to the end of the present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443240" y="3224160"/>
            <a:ext cx="617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End of Chapter Resources Fi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58320" y="0"/>
            <a:ext cx="18068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Image Ba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457200" y="1676520"/>
            <a:ext cx="243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9f9"/>
                </a:solidFill>
                <a:latin typeface="Times New Roman"/>
              </a:rPr>
              <a:t>Atom Microgra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95880" y="6249960"/>
            <a:ext cx="901800" cy="480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3657600" y="1143000"/>
            <a:ext cx="40035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658320" y="0"/>
            <a:ext cx="18068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Image Ba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3238560" y="83808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9f9"/>
                </a:solidFill>
                <a:latin typeface="Times New Roman"/>
              </a:rPr>
              <a:t>Wood Bu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95880" y="6249960"/>
            <a:ext cx="901800" cy="480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1562040" y="1806480"/>
            <a:ext cx="601992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658320" y="0"/>
            <a:ext cx="18068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Image Ba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3429000" y="7920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9f9"/>
                </a:solidFill>
                <a:latin typeface="Times New Roman"/>
              </a:rPr>
              <a:t>Iron Ru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95880" y="6249960"/>
            <a:ext cx="901800" cy="480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714680" y="1665360"/>
            <a:ext cx="571500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658320" y="0"/>
            <a:ext cx="18068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Image Ba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457200" y="16765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f9f9"/>
                </a:solidFill>
                <a:latin typeface="Times New Roman"/>
              </a:rPr>
              <a:t>John Dal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95880" y="6249960"/>
            <a:ext cx="901800" cy="480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4038480" y="762120"/>
            <a:ext cx="3000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4T15:26:19Z</dcterms:created>
  <dc:creator>Cherie Hatton</dc:creator>
  <dc:description/>
  <dc:language>en-US</dc:language>
  <cp:lastModifiedBy>cindah</cp:lastModifiedBy>
  <dcterms:modified xsi:type="dcterms:W3CDTF">2007-03-02T14:56:54Z</dcterms:modified>
  <cp:revision>351</cp:revision>
  <dc:subject/>
  <dc:title>Slide 1</dc:title>
</cp:coreProperties>
</file>